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0CA5-73A2-4690-A203-CBBE42880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49920"/>
            <a:ext cx="822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0378-3801-461F-A927-F8F37F20B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992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4992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CE55-3858-4EFD-91B5-11A02384F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49920"/>
            <a:ext cx="264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49920"/>
            <a:ext cx="264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49920"/>
            <a:ext cx="264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B3A3-1BEB-4FEB-93A7-0441C8A76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10612-1888-41C2-9BC3-8DE9268AB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89645-7F86-4C05-A340-CCEF16404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730BA-3E8C-426E-B147-407843B4D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39A64-BD33-49C4-90E1-C76FC0924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631D5-E274-4A8C-8012-E12860648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4744C-F6B7-472A-BA3F-65158EA37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4992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21FC1-B138-423B-AB70-EFA484FCD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7061-68CE-40F2-B01A-BD44F8A0B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4992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F2CC8-E7EE-4BCC-811F-A0172F963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49920"/>
            <a:ext cx="822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CAB1A-8FC2-41B5-B456-C82265947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49920"/>
            <a:ext cx="822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82EC7-0E7A-48E0-ABBE-4203F0B78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992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4992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8289D-25F4-47D0-9F69-E0D6BDE79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49920"/>
            <a:ext cx="264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49920"/>
            <a:ext cx="264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49920"/>
            <a:ext cx="264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FCD1B-CD87-401E-8FEF-B922FBB50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34F2-804F-4103-8932-2835E5185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A69C-F5E8-46FA-B740-7AD4AA2EA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A8BB-2193-4918-A08D-910163D01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C7BC-A5CC-4EBD-876C-6E87F6A3F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4992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B550-DE3A-461E-91BC-895E5F9C8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4992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7D54-6963-45FB-8067-1099D0BAA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49920"/>
            <a:ext cx="822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C5DA-2F7B-464D-88F7-65EC8D749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2743200" y="2236680"/>
              <a:ext cx="6392880" cy="4613400"/>
              <a:chOff x="2743200" y="2236680"/>
              <a:chExt cx="6392880" cy="4613400"/>
            </a:xfrm>
          </p:grpSpPr>
          <p:sp>
            <p:nvSpPr>
              <p:cNvPr id="3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129280" y="2236680"/>
                <a:ext cx="3645000" cy="2332080"/>
              </a:xfrm>
              <a:custGeom>
                <a:avLst/>
                <a:gdLst/>
                <a:ahLst/>
                <a:rect l="l" t="t" r="r" b="b"/>
                <a:pathLst>
                  <a:path w="2296" h="1469">
                    <a:moveTo>
                      <a:pt x="771" y="1088"/>
                    </a:moveTo>
                    <a:lnTo>
                      <a:pt x="982" y="1061"/>
                    </a:lnTo>
                    <a:lnTo>
                      <a:pt x="1178" y="1034"/>
                    </a:lnTo>
                    <a:lnTo>
                      <a:pt x="1357" y="1012"/>
                    </a:lnTo>
                    <a:lnTo>
                      <a:pt x="1520" y="985"/>
                    </a:lnTo>
                    <a:lnTo>
                      <a:pt x="1666" y="957"/>
                    </a:lnTo>
                    <a:lnTo>
                      <a:pt x="1796" y="930"/>
                    </a:lnTo>
                    <a:lnTo>
                      <a:pt x="1916" y="897"/>
                    </a:lnTo>
                    <a:lnTo>
                      <a:pt x="2013" y="870"/>
                    </a:lnTo>
                    <a:lnTo>
                      <a:pt x="2100" y="832"/>
                    </a:lnTo>
                    <a:lnTo>
                      <a:pt x="2171" y="800"/>
                    </a:lnTo>
                    <a:lnTo>
                      <a:pt x="2220" y="756"/>
                    </a:lnTo>
                    <a:lnTo>
                      <a:pt x="2263" y="712"/>
                    </a:lnTo>
                    <a:lnTo>
                      <a:pt x="2285" y="669"/>
                    </a:lnTo>
                    <a:lnTo>
                      <a:pt x="2296" y="614"/>
                    </a:lnTo>
                    <a:lnTo>
                      <a:pt x="2290" y="560"/>
                    </a:lnTo>
                    <a:lnTo>
                      <a:pt x="2269" y="500"/>
                    </a:lnTo>
                    <a:lnTo>
                      <a:pt x="2241" y="457"/>
                    </a:lnTo>
                    <a:lnTo>
                      <a:pt x="2198" y="408"/>
                    </a:lnTo>
                    <a:lnTo>
                      <a:pt x="2144" y="364"/>
                    </a:lnTo>
                    <a:lnTo>
                      <a:pt x="2079" y="321"/>
                    </a:lnTo>
                    <a:lnTo>
                      <a:pt x="2008" y="277"/>
                    </a:lnTo>
                    <a:lnTo>
                      <a:pt x="1927" y="234"/>
                    </a:lnTo>
                    <a:lnTo>
                      <a:pt x="1769" y="157"/>
                    </a:lnTo>
                    <a:lnTo>
                      <a:pt x="1688" y="125"/>
                    </a:lnTo>
                    <a:lnTo>
                      <a:pt x="1612" y="92"/>
                    </a:lnTo>
                    <a:lnTo>
                      <a:pt x="1536" y="65"/>
                    </a:lnTo>
                    <a:lnTo>
                      <a:pt x="1476" y="43"/>
                    </a:lnTo>
                    <a:lnTo>
                      <a:pt x="1422" y="27"/>
                    </a:lnTo>
                    <a:lnTo>
                      <a:pt x="1384" y="10"/>
                    </a:lnTo>
                    <a:lnTo>
                      <a:pt x="1357" y="5"/>
                    </a:lnTo>
                    <a:lnTo>
                      <a:pt x="1346" y="0"/>
                    </a:lnTo>
                    <a:lnTo>
                      <a:pt x="1498" y="54"/>
                    </a:lnTo>
                    <a:lnTo>
                      <a:pt x="1655" y="119"/>
                    </a:lnTo>
                    <a:lnTo>
                      <a:pt x="1807" y="185"/>
                    </a:lnTo>
                    <a:lnTo>
                      <a:pt x="1948" y="255"/>
                    </a:lnTo>
                    <a:lnTo>
                      <a:pt x="2013" y="288"/>
                    </a:lnTo>
                    <a:lnTo>
                      <a:pt x="2068" y="326"/>
                    </a:lnTo>
                    <a:lnTo>
                      <a:pt x="2122" y="364"/>
                    </a:lnTo>
                    <a:lnTo>
                      <a:pt x="2171" y="402"/>
                    </a:lnTo>
                    <a:lnTo>
                      <a:pt x="2209" y="440"/>
                    </a:lnTo>
                    <a:lnTo>
                      <a:pt x="2236" y="478"/>
                    </a:lnTo>
                    <a:lnTo>
                      <a:pt x="2252" y="522"/>
                    </a:lnTo>
                    <a:lnTo>
                      <a:pt x="2263" y="560"/>
                    </a:lnTo>
                    <a:lnTo>
                      <a:pt x="2258" y="598"/>
                    </a:lnTo>
                    <a:lnTo>
                      <a:pt x="2241" y="636"/>
                    </a:lnTo>
                    <a:lnTo>
                      <a:pt x="2214" y="669"/>
                    </a:lnTo>
                    <a:lnTo>
                      <a:pt x="2171" y="702"/>
                    </a:lnTo>
                    <a:lnTo>
                      <a:pt x="2122" y="729"/>
                    </a:lnTo>
                    <a:lnTo>
                      <a:pt x="2062" y="756"/>
                    </a:lnTo>
                    <a:lnTo>
                      <a:pt x="1997" y="778"/>
                    </a:lnTo>
                    <a:lnTo>
                      <a:pt x="1921" y="800"/>
                    </a:lnTo>
                    <a:lnTo>
                      <a:pt x="1834" y="821"/>
                    </a:lnTo>
                    <a:lnTo>
                      <a:pt x="1748" y="843"/>
                    </a:lnTo>
                    <a:lnTo>
                      <a:pt x="1552" y="876"/>
                    </a:lnTo>
                    <a:lnTo>
                      <a:pt x="1351" y="908"/>
                    </a:lnTo>
                    <a:lnTo>
                      <a:pt x="1134" y="941"/>
                    </a:lnTo>
                    <a:lnTo>
                      <a:pt x="923" y="968"/>
                    </a:lnTo>
                    <a:lnTo>
                      <a:pt x="716" y="995"/>
                    </a:lnTo>
                    <a:lnTo>
                      <a:pt x="521" y="1028"/>
                    </a:lnTo>
                    <a:lnTo>
                      <a:pt x="434" y="1044"/>
                    </a:lnTo>
                    <a:lnTo>
                      <a:pt x="353" y="1066"/>
                    </a:lnTo>
                    <a:lnTo>
                      <a:pt x="277" y="1082"/>
                    </a:lnTo>
                    <a:lnTo>
                      <a:pt x="206" y="1104"/>
                    </a:lnTo>
                    <a:lnTo>
                      <a:pt x="147" y="1126"/>
                    </a:lnTo>
                    <a:lnTo>
                      <a:pt x="92" y="1148"/>
                    </a:lnTo>
                    <a:lnTo>
                      <a:pt x="54" y="1175"/>
                    </a:lnTo>
                    <a:lnTo>
                      <a:pt x="22" y="1202"/>
                    </a:lnTo>
                    <a:lnTo>
                      <a:pt x="6" y="1229"/>
                    </a:lnTo>
                    <a:lnTo>
                      <a:pt x="0" y="1262"/>
                    </a:lnTo>
                    <a:lnTo>
                      <a:pt x="11" y="1295"/>
                    </a:lnTo>
                    <a:lnTo>
                      <a:pt x="27" y="1327"/>
                    </a:lnTo>
                    <a:lnTo>
                      <a:pt x="54" y="1355"/>
                    </a:lnTo>
                    <a:lnTo>
                      <a:pt x="98" y="1382"/>
                    </a:lnTo>
                    <a:lnTo>
                      <a:pt x="141" y="1404"/>
                    </a:lnTo>
                    <a:lnTo>
                      <a:pt x="196" y="1425"/>
                    </a:lnTo>
                    <a:lnTo>
                      <a:pt x="261" y="1447"/>
                    </a:lnTo>
                    <a:lnTo>
                      <a:pt x="326" y="1469"/>
                    </a:lnTo>
                    <a:lnTo>
                      <a:pt x="266" y="1442"/>
                    </a:lnTo>
                    <a:lnTo>
                      <a:pt x="217" y="1414"/>
                    </a:lnTo>
                    <a:lnTo>
                      <a:pt x="174" y="1387"/>
                    </a:lnTo>
                    <a:lnTo>
                      <a:pt x="147" y="1360"/>
                    </a:lnTo>
                    <a:lnTo>
                      <a:pt x="125" y="1333"/>
                    </a:lnTo>
                    <a:lnTo>
                      <a:pt x="120" y="1306"/>
                    </a:lnTo>
                    <a:lnTo>
                      <a:pt x="125" y="1278"/>
                    </a:lnTo>
                    <a:lnTo>
                      <a:pt x="141" y="1257"/>
                    </a:lnTo>
                    <a:lnTo>
                      <a:pt x="174" y="1229"/>
                    </a:lnTo>
                    <a:lnTo>
                      <a:pt x="212" y="1208"/>
                    </a:lnTo>
                    <a:lnTo>
                      <a:pt x="272" y="1186"/>
                    </a:lnTo>
                    <a:lnTo>
                      <a:pt x="342" y="1164"/>
                    </a:lnTo>
                    <a:lnTo>
                      <a:pt x="423" y="1142"/>
                    </a:lnTo>
                    <a:lnTo>
                      <a:pt x="527" y="1121"/>
                    </a:lnTo>
                    <a:lnTo>
                      <a:pt x="641" y="1104"/>
                    </a:lnTo>
                    <a:lnTo>
                      <a:pt x="771" y="1088"/>
                    </a:lnTo>
                    <a:lnTo>
                      <a:pt x="771" y="108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Palatino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DDA96-4779-4708-A22B-BD26FED0BDB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2" name=""/>
            <p:cNvGrpSpPr/>
            <p:nvPr/>
          </p:nvGrpSpPr>
          <p:grpSpPr>
            <a:xfrm>
              <a:off x="2743200" y="2236680"/>
              <a:ext cx="6392880" cy="4613400"/>
              <a:chOff x="2743200" y="2236680"/>
              <a:chExt cx="6392880" cy="4613400"/>
            </a:xfrm>
          </p:grpSpPr>
          <p:sp>
            <p:nvSpPr>
              <p:cNvPr id="53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5129280" y="2236680"/>
                <a:ext cx="3645000" cy="2332080"/>
              </a:xfrm>
              <a:custGeom>
                <a:avLst/>
                <a:gdLst/>
                <a:ahLst/>
                <a:rect l="l" t="t" r="r" b="b"/>
                <a:pathLst>
                  <a:path w="2296" h="1469">
                    <a:moveTo>
                      <a:pt x="771" y="1088"/>
                    </a:moveTo>
                    <a:lnTo>
                      <a:pt x="982" y="1061"/>
                    </a:lnTo>
                    <a:lnTo>
                      <a:pt x="1178" y="1034"/>
                    </a:lnTo>
                    <a:lnTo>
                      <a:pt x="1357" y="1012"/>
                    </a:lnTo>
                    <a:lnTo>
                      <a:pt x="1520" y="985"/>
                    </a:lnTo>
                    <a:lnTo>
                      <a:pt x="1666" y="957"/>
                    </a:lnTo>
                    <a:lnTo>
                      <a:pt x="1796" y="930"/>
                    </a:lnTo>
                    <a:lnTo>
                      <a:pt x="1916" y="897"/>
                    </a:lnTo>
                    <a:lnTo>
                      <a:pt x="2013" y="870"/>
                    </a:lnTo>
                    <a:lnTo>
                      <a:pt x="2100" y="832"/>
                    </a:lnTo>
                    <a:lnTo>
                      <a:pt x="2171" y="800"/>
                    </a:lnTo>
                    <a:lnTo>
                      <a:pt x="2220" y="756"/>
                    </a:lnTo>
                    <a:lnTo>
                      <a:pt x="2263" y="712"/>
                    </a:lnTo>
                    <a:lnTo>
                      <a:pt x="2285" y="669"/>
                    </a:lnTo>
                    <a:lnTo>
                      <a:pt x="2296" y="614"/>
                    </a:lnTo>
                    <a:lnTo>
                      <a:pt x="2290" y="560"/>
                    </a:lnTo>
                    <a:lnTo>
                      <a:pt x="2269" y="500"/>
                    </a:lnTo>
                    <a:lnTo>
                      <a:pt x="2241" y="457"/>
                    </a:lnTo>
                    <a:lnTo>
                      <a:pt x="2198" y="408"/>
                    </a:lnTo>
                    <a:lnTo>
                      <a:pt x="2144" y="364"/>
                    </a:lnTo>
                    <a:lnTo>
                      <a:pt x="2079" y="321"/>
                    </a:lnTo>
                    <a:lnTo>
                      <a:pt x="2008" y="277"/>
                    </a:lnTo>
                    <a:lnTo>
                      <a:pt x="1927" y="234"/>
                    </a:lnTo>
                    <a:lnTo>
                      <a:pt x="1769" y="157"/>
                    </a:lnTo>
                    <a:lnTo>
                      <a:pt x="1688" y="125"/>
                    </a:lnTo>
                    <a:lnTo>
                      <a:pt x="1612" y="92"/>
                    </a:lnTo>
                    <a:lnTo>
                      <a:pt x="1536" y="65"/>
                    </a:lnTo>
                    <a:lnTo>
                      <a:pt x="1476" y="43"/>
                    </a:lnTo>
                    <a:lnTo>
                      <a:pt x="1422" y="27"/>
                    </a:lnTo>
                    <a:lnTo>
                      <a:pt x="1384" y="10"/>
                    </a:lnTo>
                    <a:lnTo>
                      <a:pt x="1357" y="5"/>
                    </a:lnTo>
                    <a:lnTo>
                      <a:pt x="1346" y="0"/>
                    </a:lnTo>
                    <a:lnTo>
                      <a:pt x="1498" y="54"/>
                    </a:lnTo>
                    <a:lnTo>
                      <a:pt x="1655" y="119"/>
                    </a:lnTo>
                    <a:lnTo>
                      <a:pt x="1807" y="185"/>
                    </a:lnTo>
                    <a:lnTo>
                      <a:pt x="1948" y="255"/>
                    </a:lnTo>
                    <a:lnTo>
                      <a:pt x="2013" y="288"/>
                    </a:lnTo>
                    <a:lnTo>
                      <a:pt x="2068" y="326"/>
                    </a:lnTo>
                    <a:lnTo>
                      <a:pt x="2122" y="364"/>
                    </a:lnTo>
                    <a:lnTo>
                      <a:pt x="2171" y="402"/>
                    </a:lnTo>
                    <a:lnTo>
                      <a:pt x="2209" y="440"/>
                    </a:lnTo>
                    <a:lnTo>
                      <a:pt x="2236" y="478"/>
                    </a:lnTo>
                    <a:lnTo>
                      <a:pt x="2252" y="522"/>
                    </a:lnTo>
                    <a:lnTo>
                      <a:pt x="2263" y="560"/>
                    </a:lnTo>
                    <a:lnTo>
                      <a:pt x="2258" y="598"/>
                    </a:lnTo>
                    <a:lnTo>
                      <a:pt x="2241" y="636"/>
                    </a:lnTo>
                    <a:lnTo>
                      <a:pt x="2214" y="669"/>
                    </a:lnTo>
                    <a:lnTo>
                      <a:pt x="2171" y="702"/>
                    </a:lnTo>
                    <a:lnTo>
                      <a:pt x="2122" y="729"/>
                    </a:lnTo>
                    <a:lnTo>
                      <a:pt x="2062" y="756"/>
                    </a:lnTo>
                    <a:lnTo>
                      <a:pt x="1997" y="778"/>
                    </a:lnTo>
                    <a:lnTo>
                      <a:pt x="1921" y="800"/>
                    </a:lnTo>
                    <a:lnTo>
                      <a:pt x="1834" y="821"/>
                    </a:lnTo>
                    <a:lnTo>
                      <a:pt x="1748" y="843"/>
                    </a:lnTo>
                    <a:lnTo>
                      <a:pt x="1552" y="876"/>
                    </a:lnTo>
                    <a:lnTo>
                      <a:pt x="1351" y="908"/>
                    </a:lnTo>
                    <a:lnTo>
                      <a:pt x="1134" y="941"/>
                    </a:lnTo>
                    <a:lnTo>
                      <a:pt x="923" y="968"/>
                    </a:lnTo>
                    <a:lnTo>
                      <a:pt x="716" y="995"/>
                    </a:lnTo>
                    <a:lnTo>
                      <a:pt x="521" y="1028"/>
                    </a:lnTo>
                    <a:lnTo>
                      <a:pt x="434" y="1044"/>
                    </a:lnTo>
                    <a:lnTo>
                      <a:pt x="353" y="1066"/>
                    </a:lnTo>
                    <a:lnTo>
                      <a:pt x="277" y="1082"/>
                    </a:lnTo>
                    <a:lnTo>
                      <a:pt x="206" y="1104"/>
                    </a:lnTo>
                    <a:lnTo>
                      <a:pt x="147" y="1126"/>
                    </a:lnTo>
                    <a:lnTo>
                      <a:pt x="92" y="1148"/>
                    </a:lnTo>
                    <a:lnTo>
                      <a:pt x="54" y="1175"/>
                    </a:lnTo>
                    <a:lnTo>
                      <a:pt x="22" y="1202"/>
                    </a:lnTo>
                    <a:lnTo>
                      <a:pt x="6" y="1229"/>
                    </a:lnTo>
                    <a:lnTo>
                      <a:pt x="0" y="1262"/>
                    </a:lnTo>
                    <a:lnTo>
                      <a:pt x="11" y="1295"/>
                    </a:lnTo>
                    <a:lnTo>
                      <a:pt x="27" y="1327"/>
                    </a:lnTo>
                    <a:lnTo>
                      <a:pt x="54" y="1355"/>
                    </a:lnTo>
                    <a:lnTo>
                      <a:pt x="98" y="1382"/>
                    </a:lnTo>
                    <a:lnTo>
                      <a:pt x="141" y="1404"/>
                    </a:lnTo>
                    <a:lnTo>
                      <a:pt x="196" y="1425"/>
                    </a:lnTo>
                    <a:lnTo>
                      <a:pt x="261" y="1447"/>
                    </a:lnTo>
                    <a:lnTo>
                      <a:pt x="326" y="1469"/>
                    </a:lnTo>
                    <a:lnTo>
                      <a:pt x="266" y="1442"/>
                    </a:lnTo>
                    <a:lnTo>
                      <a:pt x="217" y="1414"/>
                    </a:lnTo>
                    <a:lnTo>
                      <a:pt x="174" y="1387"/>
                    </a:lnTo>
                    <a:lnTo>
                      <a:pt x="147" y="1360"/>
                    </a:lnTo>
                    <a:lnTo>
                      <a:pt x="125" y="1333"/>
                    </a:lnTo>
                    <a:lnTo>
                      <a:pt x="120" y="1306"/>
                    </a:lnTo>
                    <a:lnTo>
                      <a:pt x="125" y="1278"/>
                    </a:lnTo>
                    <a:lnTo>
                      <a:pt x="141" y="1257"/>
                    </a:lnTo>
                    <a:lnTo>
                      <a:pt x="174" y="1229"/>
                    </a:lnTo>
                    <a:lnTo>
                      <a:pt x="212" y="1208"/>
                    </a:lnTo>
                    <a:lnTo>
                      <a:pt x="272" y="1186"/>
                    </a:lnTo>
                    <a:lnTo>
                      <a:pt x="342" y="1164"/>
                    </a:lnTo>
                    <a:lnTo>
                      <a:pt x="423" y="1142"/>
                    </a:lnTo>
                    <a:lnTo>
                      <a:pt x="527" y="1121"/>
                    </a:lnTo>
                    <a:lnTo>
                      <a:pt x="641" y="1104"/>
                    </a:lnTo>
                    <a:lnTo>
                      <a:pt x="771" y="1088"/>
                    </a:lnTo>
                    <a:lnTo>
                      <a:pt x="771" y="108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Palatino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79883-A180-41D3-97FB-DC754C445A1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Palatino"/>
              </a:rPr>
              <a:t>Issues in Language Understanding</a:t>
            </a: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istorical Perspecti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iller and Lenneberg artic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jor Issues in Psycholinguisti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scussion of Transcrip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Palatino"/>
              </a:rPr>
              <a:t>Levels of Processing</a:t>
            </a: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Comprehension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Sound / speech perception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Visual and Spoken Word recognition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lvl="2" marL="1143000" indent="-22860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Representations of words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lvl="2" marL="1143000" indent="-22860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Matching of signal with words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lvl="3" marL="1600200" indent="-228600"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alatino"/>
              </a:rPr>
              <a:t>Word segmentation</a:t>
            </a:r>
            <a:endParaRPr b="0" lang="en-US" sz="1800" spc="-1" strike="noStrike">
              <a:solidFill>
                <a:srgbClr val="ffffff"/>
              </a:solidFill>
              <a:latin typeface="Palatino"/>
            </a:endParaRPr>
          </a:p>
          <a:p>
            <a:pPr lvl="3" marL="1600200" indent="-228600"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alatino"/>
              </a:rPr>
              <a:t>Ambiguity</a:t>
            </a:r>
            <a:endParaRPr b="0" lang="en-US" sz="18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Sentence Processing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Discourse Processing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Role of Prosody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Palatino"/>
              </a:rPr>
              <a:t>Levels of Processing</a:t>
            </a: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Production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How do we access words?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How do we construct syntax?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How do we construct sounds?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How is prosody generated?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How do we choose referring expressions?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How do we encode discourse status?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What leads to production difficulty and how does this impact production?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Palatino"/>
              </a:rPr>
              <a:t>Transcripts</a:t>
            </a: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What phenomena did you notice?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Palatino"/>
              </a:rPr>
              <a:t>Historical Perspective </a:t>
            </a: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Linguistics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Historical linguistics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description of grammar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Psychology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Behaviorism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Palatino"/>
              </a:rPr>
              <a:t>Cognitive Revolution</a:t>
            </a: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0102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Focus on mental representations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Language as the study of the mind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Chomsky (1928-  ) 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Language as a computational system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Miller 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1960 founded Harvard Center for Cognitive Studies with Bruner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7523280" y="2666880"/>
            <a:ext cx="1620720" cy="16891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7523280" y="4572000"/>
            <a:ext cx="146844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Palatino"/>
              </a:rPr>
              <a:t>Language and Psychology</a:t>
            </a: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Both the Lennenberg and Miller papers argue that language should be studied by psychologists and neuroscientists as something that’s part of human cognition.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1) Developmental Evidence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2) Neurological Evidence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3) Evolutionary Argument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Palatino"/>
              </a:rPr>
              <a:t>Miller</a:t>
            </a: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Linguistics is a branch of cognitive psychogy -- I.e., it should  be studied in terms of how it is mentally represented.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Language is generative, knowledge is structured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Syntactic knowledge seems to go beyond the input (poverty of the stimulus argument)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07732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Palatino"/>
              </a:rPr>
              <a:t>Lenneberg’s biological (cognitive) approach</a:t>
            </a: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2133360"/>
            <a:ext cx="8229600" cy="31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People from all cultures speak language.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Speech onset is age-related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Same acquisition strategy for all babies.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All languages based on same formal underlying system.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Operating characteristics don’t change over time.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Can be impaired by brain legions.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Palatino"/>
              </a:rPr>
              <a:t>Discussion</a:t>
            </a: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Biology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Species Specificity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Language Acquisition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Communication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Computer Science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Palatino"/>
              </a:rPr>
              <a:t>Issues in Language</a:t>
            </a: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Modularity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Innateness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Rules and Representations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Palatino"/>
              </a:rPr>
              <a:t>General Issues</a:t>
            </a: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82296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alatino"/>
              </a:rPr>
              <a:t>Cognitive architecture - encapsulated or not?</a:t>
            </a:r>
            <a:endParaRPr b="0" lang="en-US" sz="26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Interaction of different levels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Linguistic vs. nonlinguistic sources of information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Audience design / Theory of Mind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Rules and Representation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alatino"/>
              </a:rPr>
              <a:t>How does this architecture develop in children? (role of input, constraints of architecture itself)</a:t>
            </a:r>
            <a:endParaRPr b="0" lang="en-US" sz="26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alatino"/>
              </a:rPr>
              <a:t>Individual differences</a:t>
            </a:r>
            <a:endParaRPr b="0" lang="en-US" sz="26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alatino"/>
              </a:rPr>
              <a:t>Neural architecture</a:t>
            </a:r>
            <a:endParaRPr b="0" lang="en-US" sz="26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alatino"/>
              </a:rPr>
              <a:t>Language and Thought</a:t>
            </a:r>
            <a:endParaRPr b="0" lang="en-US" sz="2600" spc="-1" strike="noStrike">
              <a:solidFill>
                <a:srgbClr val="ffffff"/>
              </a:solidFill>
              <a:latin typeface="Palatino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9T16:09:13Z</dcterms:created>
  <dc:creator>Duane Watson</dc:creator>
  <dc:description/>
  <dc:language>en-US</dc:language>
  <cp:lastModifiedBy>Duane Watson</cp:lastModifiedBy>
  <dcterms:modified xsi:type="dcterms:W3CDTF">2004-01-20T17:24:46Z</dcterms:modified>
  <cp:revision>4</cp:revision>
  <dc:subject/>
  <dc:title>Issues in Language Understanding</dc:title>
</cp:coreProperties>
</file>