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B819-52C0-4C84-8F4A-BD94C36F6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3879-B614-46F0-B7C1-50A7F40E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80CD-A394-46B9-98F8-C7023093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BFC7-63DE-4AF4-8E76-246D2310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FAFD-A801-43A7-875F-A65ADAAA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CB1F-2C53-4DD3-B534-9ED5FB04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10CB-30B0-4B09-BDBE-BE1E8768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D595-685B-43DF-AE41-65F50485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753A-19C2-49D9-997F-D1FAD010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337F-994C-43FC-A0BE-4E5DDE9A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7685-1AC9-4EFA-8E83-FA12C3BF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A6FB-DB1E-4419-916F-1C82873B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ABDE-A3C0-48D0-87A5-983437A4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6029-F2A4-43A3-BC36-5480A78E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3107-3626-4D94-A9F2-5A8A405B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C791-A019-4993-9A38-CF3D56E1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48CB-3EA3-42D5-8C3E-657D209A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C0A8-8B9D-4C4A-AA16-BB0BB4FA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97CC-F492-4A0A-8EBA-C18780E5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3C60-9F3D-4089-A2ED-7C8597D5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A33A-58B2-44A7-BE02-30C64850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5279-006C-40E6-AB8F-D4517C78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7652-A874-4DDA-A6F1-9F3CA4D4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ED88-47F7-4E94-A616-A0DD910D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AFFA-EE22-43E7-B806-8510FA2AF7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5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52AF-B1F5-4E6B-BEE8-73BFE25D01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Issues in Language Understanding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torical Persp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ler and Lenneberg artic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jor Issues in Psycholinguis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ussion of Transcri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Levels of Processing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omprehension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ound / speech perception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Visual and Spoken Word recognition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Representations of word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Matching of signal with word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3" marL="1600200" indent="-22860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Word segmentation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3" marL="1600200" indent="-22860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Ambiguity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entence Processing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Discourse Processing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Role of Prosody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Levels of Processing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Production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How do we access words?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How do we construct syntax?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How do we construct sounds?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How is prosody generated?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How do we choose referring expressions?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How do we encode discourse status?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What leads to production difficulty and how does this impact production?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Transcript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What phenomena did you notice?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Historical Perspective 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Linguistic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Historical linguistic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description of grammar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sychology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Behaviorism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ognitive Revolution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010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ocus on mental representation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Language as the study of the mind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homsky (1928-  ) 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Language as a computational system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Miller 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1960 founded Harvard Center for Cognitive Studies with Bruner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523280" y="2666880"/>
            <a:ext cx="1620720" cy="1689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523280" y="4572000"/>
            <a:ext cx="14684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Language and Psychology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Both the Lennenberg and Miller papers argue that language should be studied by psychologists and neuroscientists as something that’s part of human cognition.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1) Developmental Evidenc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2) Neurological Evidenc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3) Evolutionary Argument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Miller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Linguistics is a branch of cognitive psychogy -- I.e., it should  be studied in terms of how it is mentally represented.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Language is generative, knowledge is structured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yntactic knowledge seems to go beyond the input (poverty of the stimulus argument)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7732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Lenneberg’s biological (cognitive) approach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22960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People from all cultures speak language.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peech onset is age-related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ame acquisition strategy for all babies.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All languages based on same formal underlying system.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Operating characteristics don’t change over time.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an be impaired by brain legions.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Discussion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Biology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pecies Specificity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Language Acquisition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ommunication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omputer Science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Issues in Language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Modularity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Innatenes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Rules and Representation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General Issue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latino"/>
              </a:rPr>
              <a:t>Cognitive architecture - encapsulated or not?</a:t>
            </a:r>
            <a:endParaRPr b="0" lang="en-US" sz="26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Interaction of different levels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Linguistic vs. nonlinguistic sources of information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Audience design / Theory of Mind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Rules and Representation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latino"/>
              </a:rPr>
              <a:t>How does this architecture develop in children? (role of input, constraints of architecture itself)</a:t>
            </a:r>
            <a:endParaRPr b="0" lang="en-US" sz="2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latino"/>
              </a:rPr>
              <a:t>Individual differences</a:t>
            </a:r>
            <a:endParaRPr b="0" lang="en-US" sz="2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latino"/>
              </a:rPr>
              <a:t>Neural architecture</a:t>
            </a:r>
            <a:endParaRPr b="0" lang="en-US" sz="2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latino"/>
              </a:rPr>
              <a:t>Language and Thought</a:t>
            </a:r>
            <a:endParaRPr b="0" lang="en-US" sz="26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16:09:13Z</dcterms:created>
  <dc:creator>Duane Watson</dc:creator>
  <dc:description/>
  <dc:language>en-US</dc:language>
  <cp:lastModifiedBy>Duane Watson</cp:lastModifiedBy>
  <dcterms:modified xsi:type="dcterms:W3CDTF">2004-01-20T17:24:46Z</dcterms:modified>
  <cp:revision>4</cp:revision>
  <dc:subject/>
  <dc:title>Issues in Language Understanding</dc:title>
</cp:coreProperties>
</file>